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7E61-ACA8-4C19-A769-63D4452D3A6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7E42-C16B-4308-9D4D-CF9799E086F2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3A5C-9063-451E-B484-28CFA5F468AF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E4A8-E4BA-4E4B-B8C1-B73A3FF3FA92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D1AB-73C6-45C2-80A2-EFB34A2F28A7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E165-872B-4F39-942D-FEB8B7543505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0B8B-B677-4EBB-996E-660D0483F863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6CA5-8C25-4553-B4CB-71E800966CE6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5592-9293-4D79-8DB6-4DA254AE2F40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DE81-A5B4-49E3-B367-6D74707A7AA4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1FE0-617C-48CC-B76A-02D95C2092A5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2E6D-D757-4435-AB6F-19E6C330B4E9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353B-CDD3-4B5A-AA5E-D076878C1632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C6F3-39F6-44AF-A051-965D3A63C15E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724-51D0-447B-95D6-DE1AEAE0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D91-401A-475D-8088-DEC9E7B0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8B3C-94AA-4764-ACAA-93727AAB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B35F-24A5-482B-BA99-CCF3EA44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EEB-17CF-4AC7-8DEC-8C2289AA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167-5D72-499A-825F-7FA94451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C14-63BA-4704-8B3B-5AC7F200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A28B-215D-4AC1-8C30-965B7E5B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4399-F655-4EB3-BF97-CB3522B7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700D-DD58-4BA8-809D-96754FE7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59DF-FAE9-4AF9-B903-83DD61DE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54E1-904F-40BC-9FF4-7A0D8BAF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BA5C-B579-4933-8FF5-0B7BA0E494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α- ΘΑΛΑΣΣΑΙΜΙ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Κλινική εικόνα Αιμοσφαιρινοπάθειας 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 γενική εικόνα είναι ήπι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 διάρκεια επιβίωσης φυσιολογικ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οικίλλου βαθμού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πατ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πλην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Χολολιθία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Ίκτερο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ιμοσιδήρωση με πιθανές εκδηλώσεις από καρδι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Εργαστηριακά ευρήματα Αιμοσφαιρινοπάθειας 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Περιφερικό αίμ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Υπόχρωμη μικροκυτταρική αναιμί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οικιλοκυττάρωσ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Βασεόφιλη στίξ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ύξηση ΔΕΚ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ύξηση Χολερυθρίν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Ηλεκροφόρηση Αιμοσφαιρίνης και Η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L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Υψηλή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-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(2-40%, συνήθως 8-15%)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ημαντικό εύρημ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ολύ χαμηλή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A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Υψηλή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F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(συνήθως 1-3%)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A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(το υπόλοιπο ποσοστό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νεύρεση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 Bart’s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(5%) σε μερικούς ασθενεί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Θεραπεία Αιμοσφαιρινοπάθειας 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Στους περισσότερους ασθενεί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δεν είναι απαραίτητη καμία θεραπεί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Σε ορισμένους απαιτείται μετάγγιση αίματο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4. ΑΙΜΟΣΦΑΙΡΙΝΟΠΑΘΕΙΑ </a:t>
            </a:r>
            <a:r>
              <a:rPr b="1" lang="en-US" sz="2800" spc="-1" strike="noStrike">
                <a:solidFill>
                  <a:srgbClr val="009999"/>
                </a:solidFill>
                <a:latin typeface="Calibri"/>
              </a:rPr>
              <a:t>Bart’s</a:t>
            </a:r>
            <a:br>
              <a:rPr sz="2800"/>
            </a:b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ΕΜΒΡΥΪΚΟΣ ΥΔΡΩΠΑΣ ή Μείζων α-θαλασσ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Οφείλεται στην ύπαρξη </a:t>
            </a:r>
            <a:r>
              <a:rPr b="1" lang="el-GR" sz="3000" spc="-1" strike="noStrike">
                <a:solidFill>
                  <a:srgbClr val="1f497d"/>
                </a:solidFill>
                <a:latin typeface="Calibri"/>
              </a:rPr>
              <a:t>δύο μεταλλάξεων α</a:t>
            </a:r>
            <a:r>
              <a:rPr b="1" lang="el-GR" sz="3000" spc="-1" strike="noStrike" baseline="30000">
                <a:solidFill>
                  <a:srgbClr val="1f497d"/>
                </a:solidFill>
                <a:latin typeface="Calibri"/>
              </a:rPr>
              <a:t>0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    →  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ολοκληρωτική απουσία της α-αιμοσφαιρίνη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Γονότυπος (--/--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Έλλειψη τεσσάρων α-γονιδίων (α4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 u="sng">
                <a:solidFill>
                  <a:srgbClr val="1f497d"/>
                </a:solidFill>
                <a:uFillTx/>
                <a:latin typeface="Calibri"/>
              </a:rPr>
              <a:t>Μη συμβατή με τη ζωή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, τα έμβρυα πεθαίνουν πριν τη γέννηση τους ή αμέσως μετά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(καρδιακή ανεπάρκεια, ατελής οργανογένεση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Σχεδόν όλη η Αιμοσφαιρίνη είναι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Hb Bart’s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(γ4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Μικρό ποσοστό Αιμοσφαιρίνης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Portland (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ζ</a:t>
            </a:r>
            <a:r>
              <a:rPr b="0" lang="el-GR" sz="30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γ</a:t>
            </a:r>
            <a:r>
              <a:rPr b="0" lang="el-GR" sz="30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α-Θαλασσαιμί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160" y="13712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Οι α-θαλασσαιμίες είναι κληρονομικά νοσήματα που χαρακτηρίζονται από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ανεπαρκή παραγωγή ή πλήρη έλλειψη της α σφαιρίνης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και αυξημένη παραγωγή των β αλύσων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Είναι περισσότερο συχνές στην Αφρική, τη Μέση Ανατολή, την Ινδία, τη Νοτιοανατολική Ασία, τη Νότια Κίνα, και σποραδικά στη Μεσόγει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α-θαλασσαιμί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Το έλλειμμα της α-αλυσίδας έχει σαν αποτέλεσμα το πλεόνασμα των β-αλυσίδων, οι οποίες</a:t>
            </a: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θροίζονται μέσα στα κύτταρ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Διαταράσσουν την πλαστικότητα του ερυθροκυττάρο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Κατακρατούνται στο σπλήν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Φαγοκυτταρρώνοντα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Εργαστηριακά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τα αθροίσματα των β-αλυσίδων γίνονται ορατά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ε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Επώαση των ερυθρών με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aNO</a:t>
            </a:r>
            <a:r>
              <a:rPr b="0" lang="en-US" sz="26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Χρώση με ιώδες του μεθυλίο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ΚΥΡΙΕΣ ΔΙΑΦΟΡΕΣ ΤΩΝ α- 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΄ΑΠΌ ΤΙΣ β- ΜΕΣ. ΑΝ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Γενετική διαφορά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Για τις α-αλυσίδες, υπάρχουν 4 γονίδια (αντί 2) για τη σύνθεσή τους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(αα/α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Παθοφυσιολογική διαφορά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Τα τετραμερή που δημιουργούνται από την περίσσεια των β-αλυσίδων (β4) είναι περισσότερο διαλυτά από τα α4 και δεν προκαλούν εκσεσημασμένη δυσερυθροποίηση όπως στις 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Κλινική διαφορά: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Έχουν πολύ ευρύ κλινικό φάσμα (από ασυμπτωματικές ως ασύμβατες με τη ζωή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99"/>
                </a:solidFill>
                <a:latin typeface="Calibri"/>
              </a:rPr>
              <a:t> </a:t>
            </a: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ΚΛΙΝΙΚΕΣ ΜΟΡΦΕΣ α-ΘΑΛΑΣΣΑΙΜΙΑ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1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-θαλασσαιμία-2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(ήπια ή σιωπηλός φορέα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-θαλασσαιμίες-1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(βαρειά ετερόζυγη)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ιμοσφαιρινοπάθεια Η (ενδιάμεση α-θαλασσαιμί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ίζων α-θαλασσαιμία - Αιμοσφαιρινοπάθεια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Bart’s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ή εμβρυϊκός ύδωπας (ασύμβατη με τη ζωή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1.  α-Θαλασσαιμία-2  (σιωπηλός φορέας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έλλειψη ενός α-γονιδίου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(γονότυπος α-/α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εν συνοδεύεται από αιματολογικές διαταραχές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Εργαστηριακά ευρήματ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ιματολογική εικόνα και μορφολογία ερυθρών φυσιολογική (σπάνια αναιμί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ρυθροκυτταρικοί δείκτες φυσιολογικοί ή ελαφρά μειωμένο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μβρυϊκή αιμοσφαιρίνη (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bF)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και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bA2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ιμοσφαιρίνη φυσιολογικέ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 διάγνωση μπαίνει με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DNA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άλυ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Calibri"/>
              </a:rPr>
              <a:t>2.  </a:t>
            </a: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α-θαλασσαιμία-1  (βαρειά ετερόζυγη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c000"/>
                </a:solidFill>
                <a:latin typeface="Calibri"/>
              </a:rPr>
              <a:t>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έλλειψη ή μεταλλάξεις δύο α-γονιδίων(α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αα/-- ή  α-/α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Κλινικά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ασυμπτωματικο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Εργαστηριακά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Το έλλειμμα των α-αλυσίδων δεν καλύπτεται από  την υπερλειτουργία  των δύο υγιών γονιδίων και συνεπώς παρουσιάζει εργαστηριακά ευρήματ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917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Εργαστηριακά ευρήματα α-Θαλασσαιμίας-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Υπόχρωμη μικροκυτταρική αναιμί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θαλασσαιμικά ευρήματ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ύξηση αριθμού ερυθροκυττάρω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ρυθροκυτταρικοί δείκτες (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CV, MCH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) μειωμένο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bA2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κφ ή ↓,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bF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κ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ίχνευση ελεύθερων β-αλυσίδων μετά επώαση κα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χρώση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 (ιώδες του μεθυλίου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Διάγνωση: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γίνεται με μοριακές τεχνικές (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DNA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άλυση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3.  Αιμοσφαιρινοπάθεια Η  </a:t>
            </a:r>
            <a:br>
              <a:rPr sz="3600"/>
            </a:b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(ενδιάμεση α-θαλασσαιμία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13712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Έλλειψη τριών α-γονιδίων (α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Γονότυπος (α-/--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ολύ μικρή παραγωγή α-αλύσων - μεγάλη περίσσεια β-αλύσω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Οι β-αλυσίδες σχηματίζουν τετραμερή (β4) που είναι η αιμοσφαιρίνη Η (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Η αιμοσφαιρίνη Η έχει υψηλή δεσμευτική ικανότητα οξυγόνου, αλλά χαμηλή απόδοση οξυγόνου στους ιστού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Η κλινική εικόνα ποικίλλε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ερίσσεια β-αλυσίδων           κατακρήμνιση εντός των ερυθρών          φαγοκυττάρωση στο σπλήνα(εξωαγγειακή αιμόλυση)          διόγκωση του σπλήν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ight Arrow 5"/>
          <p:cNvSpPr/>
          <p:nvPr/>
        </p:nvSpPr>
        <p:spPr>
          <a:xfrm>
            <a:off x="4124160" y="5635800"/>
            <a:ext cx="381240" cy="75960"/>
          </a:xfrm>
          <a:prstGeom prst="rightArrow">
            <a:avLst>
              <a:gd name="adj1" fmla="val 50000"/>
              <a:gd name="adj2" fmla="val 542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5"/>
          <p:cNvSpPr/>
          <p:nvPr/>
        </p:nvSpPr>
        <p:spPr>
          <a:xfrm>
            <a:off x="2438280" y="6400800"/>
            <a:ext cx="381240" cy="76320"/>
          </a:xfrm>
          <a:prstGeom prst="rightArrow">
            <a:avLst>
              <a:gd name="adj1" fmla="val 50000"/>
              <a:gd name="adj2" fmla="val 54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5"/>
          <p:cNvSpPr/>
          <p:nvPr/>
        </p:nvSpPr>
        <p:spPr>
          <a:xfrm>
            <a:off x="2209680" y="6019920"/>
            <a:ext cx="381240" cy="75960"/>
          </a:xfrm>
          <a:prstGeom prst="rightArrow">
            <a:avLst>
              <a:gd name="adj1" fmla="val 50000"/>
              <a:gd name="adj2" fmla="val 542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christos zilidis</cp:lastModifiedBy>
  <dcterms:modified xsi:type="dcterms:W3CDTF">2020-05-17T17:31:10Z</dcterms:modified>
  <cp:revision>737</cp:revision>
  <dc:subject/>
  <dc:title>Slide 1</dc:title>
</cp:coreProperties>
</file>